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1C-A641-44B5-8C93-6D37ED13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60D-50A2-48B8-95CF-DAAD13D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031-88A7-4BDE-971D-4304ABF2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E1C-2EDF-48FE-9173-C1463DE2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D27-D0AC-4D71-B4BA-F3682C3E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583-DC8A-412C-92A6-BB33295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57A-7A0E-416A-B777-A5EBCCF7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916-F1DC-4328-9071-8BEF644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FD2-34C5-41BF-A7A4-087C7E4B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904-EE29-422D-9217-C62F657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334-7E11-4871-84CA-677F109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534-5F3D-4EDB-B217-FDCD916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1EA9-B46F-42A6-BFAF-C0BBE46A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838080"/>
            <a:ext cx="77724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istm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1148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St. Jude Art &amp; Technology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s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9093"/>
          <a:stretch/>
        </p:blipFill>
        <p:spPr>
          <a:xfrm>
            <a:off x="5257800" y="855720"/>
            <a:ext cx="35053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33520"/>
            <a:ext cx="16761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10080" y="380880"/>
            <a:ext cx="289584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e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2448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7712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77120" y="38088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304920"/>
            <a:ext cx="30477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Christmas Car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72200" y="45720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29400" y="236232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Fu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685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523880"/>
            <a:ext cx="73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ve a Merry Christmas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22878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for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60948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Kin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1219320"/>
            <a:ext cx="38862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728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617220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the Tr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6248520"/>
            <a:ext cx="16765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0:51:10Z</dcterms:created>
  <dc:creator>Patrick J. Mooney</dc:creator>
  <dc:description/>
  <dc:language>en-US</dc:language>
  <cp:lastModifiedBy>Patrick J. Mooney</cp:lastModifiedBy>
  <dcterms:modified xsi:type="dcterms:W3CDTF">2011-12-13T22:27:21Z</dcterms:modified>
  <cp:revision>4</cp:revision>
  <dc:subject/>
  <dc:title>Slide 1</dc:title>
</cp:coreProperties>
</file>